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A9BA-4A4D-4D0B-ADA9-EF93B4D82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698E-49AD-4CE8-9BBB-BC2D15E12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85B9-987B-488C-AFD3-34E64305C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53C3-210B-408C-8A89-1E93358D79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8231-D7FC-47F9-85CA-F21C5ECAD0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5A09-3A34-4243-9567-3324F4917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0EB0-0C69-4D46-81EC-3AD537771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ABAA-B809-4799-9B7B-305F4EF8A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98DF-0D5E-4876-943C-F081CEA7F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3EF1-4783-48EA-B41D-EBC6389D3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E8D9-B709-45C7-B503-7C4FBD83F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8E8F-E06A-4A89-8CEE-A289C0A19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70D3-B306-4C38-A6DF-8F8A604480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74DF-F127-4B15-9D76-4B1E89B06F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erspectives 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need a pen and your mar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group will have the following materials pro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eneric Mathematical Processes Rubric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 (you will only receive the section related to your le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the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Generalization Strategies and Justification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framework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 copy of </a:t>
            </a:r>
            <a:r>
              <a:rPr b="0" i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BLM PR3.3 Recording Shee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er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tables we will designate for Numbers 1, 2 and 3.  No more than 4 people in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ait for the next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2C80-8B0C-4B90-A9AD-F3CFB5654E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EEEF-3FA7-43FA-92F6-A9687DB549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Your Ta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will have the next 20 minutes (approximately) to look at the criteria for your lens using the resources we have provided to ensure that you have a common understanding as a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your group’s common understanding of “Important Things to Consider/Look For” in the top box on the Recording Sheet.  Leave other boxes bl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2861-A355-44E9-9DF5-A5E039571A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2650-85C6-4915-8CB9-709C749E98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2 ~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group will receive the same set of 4 student samples which have been numbered for iden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person will start with one of the s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ing BLM 3.3,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cord your feedback for that student using the criteria for your lens (see box at top of your page). Record in the appropriat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you are done, turn the sample over to signal you are ready to pass the sample to the nex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en everyone has their sample turned over, pass the samples ONE place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2600" indent="-60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027E-C8CC-4618-817A-DE74F6C7F9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7A8C-A342-4366-9DB1-1DABECF2E5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3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arting with sample 1, do a Round Robin in your group, to share your feed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me to CONSENSUS on 1 or 2 KEY pieces of feedback for that stu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cord with marker on the half piece of chart paper (be sure to put the student sample number on the chart paper along with the feedba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epeat for all 4 samples (approx 5 min per sam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ost chart paper beside samples on the wall when d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8E69-69A0-416D-B182-94BB5F09E3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2209-D1F9-446E-8683-CDE425D85E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Part 4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eate groups of 3 by taking one person from each Expert Group to form new Jigsaw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ake a Gallery Walk to look at each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ach Jigsaw group member will share the justification for feedback with the other group members, based on his/her l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E9CE-8C26-4777-925D-A60F23C5C1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8F1C-AD87-430C-A71E-6FAF3E9995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focussing on a particular lens help you provide feedback?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3017-0AA9-492C-B358-5AFCCF9406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F299-490B-42D3-8ED0-830D0435D4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d you notice any overlaps in the feedback provided through the different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C0B7-CE96-463D-9D2D-8641CB85E2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B5D8-6520-45D8-A4FB-348162AB00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ll you look at providing feedback any differently now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38A5-AABB-475E-B0F0-F881E8BE5A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42FF-6067-43F0-B9A3-B74E5B753B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Discussion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questions/concerns do you still hav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963B-6FE8-4A47-93AD-C83B064E38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724F-40B3-4A39-B762-EAB6E001D6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820A-DC80-47D8-BB59-4D48FBFD36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9AB-42CA-4365-9861-A9ADEB0DDA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sider the various criteria (lenses) through which we assess studen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stand the importance of shared teacher/student understanding of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personal assessment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that criteria are contex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responding by looking at student samples through a variety of le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EEEB-0D9A-4552-843A-79073911A2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54E7-03A2-4F03-9DD1-019FF51316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20 minut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CA" sz="4800" spc="-1" strike="noStrike">
                <a:solidFill>
                  <a:srgbClr val="000000"/>
                </a:solidFill>
                <a:latin typeface="Arial"/>
              </a:rPr>
              <a:t>The Clapping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B9DC-A3D9-4B2B-8DC7-B02A4EE101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CF1D-9981-4309-A2BF-C8CCCDA789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– Part 1 ~ 3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are we looking for when we provide feedback to stud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/Applic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/Problem Solv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thematical Proces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2A77-57A7-4F7B-B16F-3FBFED4459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A607-61B9-42F3-B821-E48B58F36D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practice providing feedback on samples of student work through the following lenses (Achievement Chart and Math Proces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Knowledge and Application (Selecting Tools and Strategies, Conn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mmunication (Representing, Communic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ing (Reasoning and Proving, Problem Solving, Reflec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2DA6-86E4-442B-9149-C9AE360D6F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292F-E77C-49FC-B8D8-AB58CC1C0A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sponding to Student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 will also consider the frameworks from Ruth Beatty and Cathy Br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Generaliz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04FD-1E9F-4F27-A157-BBA9AFD97B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D5F1-5F5B-4EBD-9F17-20AD218F3C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roups of 4 – 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off 1,2,3 around th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1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Knowledge and Application (Selecting Tools and Strategies, Conn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D715-12BB-4AD4-BFC4-1CE5BCD5F0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5B44-F2D4-4BE5-ADA0-ECDAB09560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2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Communication (Representing, Communica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16CB-505B-4321-AC34-E38ABE8AE4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5DA1-4D9E-426E-9FA4-70938A0C46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3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4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umber 3’s will be using the len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Thinking (Reasoning and Proving, Problem Solving, Reflec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c0099"/>
                </a:solidFill>
                <a:latin typeface="Arial"/>
              </a:rPr>
              <a:t>Generalization Strategies and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7B81-02D1-4BBE-937C-6136A3255F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62DD-D5A2-480B-9222-444FFC0386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7-30T19:15:04Z</dcterms:modified>
  <cp:revision>28</cp:revision>
  <dc:subject/>
  <dc:title>&lt;Title&gt;</dc:title>
</cp:coreProperties>
</file>